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BEAD-A577-49DE-AEB2-6685FDC50CC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F918-3145-4A9D-B835-265207E8C0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071-C089-48B9-8C58-549EE133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C51-E814-4411-906C-8FCD5267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A61-2725-4F68-8924-496C33E4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C34-E636-48EC-A54C-0A2589DD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CE4-5AFB-48A6-8A8E-9F798138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06D-D8D6-4F10-8206-9F6B501E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4AE-4DE2-4AF8-9556-5D81B025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D0A-6F47-4F5B-9A97-A1CF8063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B07-BD68-4432-B80B-77E427EF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CC0-6C5A-41DA-AD4A-815E86E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372-F7AE-4D7A-AB57-93DEB8E8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700-F000-472D-A4F4-0AB38F6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E679-66D8-4B85-9F18-8CA1E484F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102240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rId2" action="ppaction://hlinksldjump"/>
          </p:cNvPr>
          <p:cNvSpPr/>
          <p:nvPr/>
        </p:nvSpPr>
        <p:spPr>
          <a:xfrm>
            <a:off x="281952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rId3" action="ppaction://hlinksldjump"/>
          </p:cNvPr>
          <p:cNvSpPr/>
          <p:nvPr/>
        </p:nvSpPr>
        <p:spPr>
          <a:xfrm>
            <a:off x="464832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rId4" action="ppaction://hlinksldjump"/>
          </p:cNvPr>
          <p:cNvSpPr/>
          <p:nvPr/>
        </p:nvSpPr>
        <p:spPr>
          <a:xfrm>
            <a:off x="659124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1022400" y="4114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>
            <a:hlinkClick r:id="rId6" action="ppaction://hlinksldjump"/>
          </p:cNvPr>
          <p:cNvSpPr/>
          <p:nvPr/>
        </p:nvSpPr>
        <p:spPr>
          <a:xfrm>
            <a:off x="2819520" y="4114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. 9 Quick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>
            <a:hlinkClick r:id="rId7" action="ppaction://hlinksldjump"/>
          </p:cNvPr>
          <p:cNvSpPr/>
          <p:nvPr/>
        </p:nvSpPr>
        <p:spPr>
          <a:xfrm>
            <a:off x="4648320" y="4114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>
            <a:hlinkClick r:id="rId8" action="ppaction://hlinksldjump"/>
          </p:cNvPr>
          <p:cNvSpPr/>
          <p:nvPr/>
        </p:nvSpPr>
        <p:spPr>
          <a:xfrm>
            <a:off x="6591240" y="4114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>
            <a:hlinkClick r:id="rId9" action="ppaction://hlinksldjump"/>
          </p:cNvPr>
          <p:cNvSpPr/>
          <p:nvPr/>
        </p:nvSpPr>
        <p:spPr>
          <a:xfrm>
            <a:off x="3505320" y="5486400"/>
            <a:ext cx="1447560" cy="838080"/>
          </a:xfrm>
          <a:custGeom>
            <a:avLst/>
            <a:gdLst>
              <a:gd name="textAreaLeft" fmla="*/ 54000 w 1447560"/>
              <a:gd name="textAreaRight" fmla="*/ 1393560 w 1447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02" h="21600">
                <a:moveTo>
                  <a:pt x="0" y="0"/>
                </a:moveTo>
                <a:lnTo>
                  <a:pt x="37302" y="0"/>
                </a:lnTo>
                <a:lnTo>
                  <a:pt x="37302" y="21600"/>
                </a:lnTo>
                <a:lnTo>
                  <a:pt x="0" y="21600"/>
                </a:lnTo>
                <a:close/>
              </a:path>
              <a:path fill="lightenLess" w="37302" h="21600">
                <a:moveTo>
                  <a:pt x="0" y="0"/>
                </a:moveTo>
                <a:lnTo>
                  <a:pt x="37302" y="0"/>
                </a:lnTo>
                <a:lnTo>
                  <a:pt x="35902" y="1400"/>
                </a:lnTo>
                <a:lnTo>
                  <a:pt x="1400" y="1400"/>
                </a:lnTo>
                <a:close/>
              </a:path>
              <a:path fill="darken" w="37302" h="21600">
                <a:moveTo>
                  <a:pt x="37302" y="0"/>
                </a:moveTo>
                <a:lnTo>
                  <a:pt x="37302" y="21600"/>
                </a:lnTo>
                <a:lnTo>
                  <a:pt x="35902" y="20200"/>
                </a:lnTo>
                <a:lnTo>
                  <a:pt x="35902" y="1400"/>
                </a:lnTo>
                <a:close/>
              </a:path>
              <a:path fill="darkenLess" w="37302" h="21600">
                <a:moveTo>
                  <a:pt x="37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2" y="20200"/>
                </a:lnTo>
                <a:close/>
              </a:path>
              <a:path fill="lighten" w="37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5 products of cellular respi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ction Button: Information 3"/>
          <p:cNvSpPr/>
          <p:nvPr/>
        </p:nvSpPr>
        <p:spPr>
          <a:xfrm>
            <a:off x="5486400" y="52052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79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7">
                <a:moveTo>
                  <a:pt x="10800" y="417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7">
                <a:moveTo>
                  <a:pt x="8224" y="8227"/>
                </a:moveTo>
                <a:lnTo>
                  <a:pt x="12088" y="8227"/>
                </a:lnTo>
                <a:lnTo>
                  <a:pt x="12088" y="15225"/>
                </a:lnTo>
                <a:lnTo>
                  <a:pt x="13376" y="15225"/>
                </a:lnTo>
                <a:lnTo>
                  <a:pt x="13376" y="16148"/>
                </a:lnTo>
                <a:lnTo>
                  <a:pt x="8224" y="16148"/>
                </a:lnTo>
                <a:lnTo>
                  <a:pt x="8224" y="15225"/>
                </a:lnTo>
                <a:lnTo>
                  <a:pt x="9512" y="15225"/>
                </a:lnTo>
                <a:lnTo>
                  <a:pt x="9512" y="9133"/>
                </a:lnTo>
                <a:lnTo>
                  <a:pt x="8224" y="91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, ATP, NAD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 to Acetyl-CoA &amp; 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al Inner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mping H+ into the mitochondrial intermembrane space (generating proton-motive for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al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, 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, NAD+, FAD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NADH becomes NAD+, has it been oxidized or reduced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" action="ppaction://hlinkshowjump?jump=firstslide"/>
          </p:cNvPr>
          <p:cNvSpPr/>
          <p:nvPr/>
        </p:nvSpPr>
        <p:spPr>
          <a:xfrm>
            <a:off x="2438280" y="5334120"/>
            <a:ext cx="1295640" cy="76176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6731" h="21600">
                <a:moveTo>
                  <a:pt x="0" y="0"/>
                </a:moveTo>
                <a:lnTo>
                  <a:pt x="36731" y="0"/>
                </a:lnTo>
                <a:lnTo>
                  <a:pt x="36731" y="21600"/>
                </a:lnTo>
                <a:lnTo>
                  <a:pt x="0" y="21600"/>
                </a:lnTo>
                <a:close/>
              </a:path>
              <a:path fill="lightenLess" w="36731" h="21600">
                <a:moveTo>
                  <a:pt x="0" y="0"/>
                </a:moveTo>
                <a:lnTo>
                  <a:pt x="36731" y="0"/>
                </a:lnTo>
                <a:lnTo>
                  <a:pt x="35331" y="1400"/>
                </a:lnTo>
                <a:lnTo>
                  <a:pt x="1400" y="1400"/>
                </a:lnTo>
                <a:close/>
              </a:path>
              <a:path fill="darken" w="36731" h="21600">
                <a:moveTo>
                  <a:pt x="36731" y="0"/>
                </a:moveTo>
                <a:lnTo>
                  <a:pt x="36731" y="21600"/>
                </a:lnTo>
                <a:lnTo>
                  <a:pt x="35331" y="20200"/>
                </a:lnTo>
                <a:lnTo>
                  <a:pt x="35331" y="1400"/>
                </a:lnTo>
                <a:close/>
              </a:path>
              <a:path fill="darkenLess" w="36731" h="21600">
                <a:moveTo>
                  <a:pt x="36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31" y="20200"/>
                </a:lnTo>
                <a:close/>
              </a:path>
              <a:path fill="lighten" w="36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31" h="21600">
                <a:moveTo>
                  <a:pt x="14867" y="10800"/>
                </a:moveTo>
                <a:lnTo>
                  <a:pt x="25372" y="3794"/>
                </a:lnTo>
                <a:lnTo>
                  <a:pt x="25372" y="17806"/>
                </a:lnTo>
                <a:close/>
              </a:path>
              <a:path fill="darken" w="36731" h="21600">
                <a:moveTo>
                  <a:pt x="11359" y="3794"/>
                </a:moveTo>
                <a:lnTo>
                  <a:pt x="13022" y="3794"/>
                </a:lnTo>
                <a:lnTo>
                  <a:pt x="13022" y="17806"/>
                </a:lnTo>
                <a:lnTo>
                  <a:pt x="113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ction Button: Information 3">
            <a:hlinkClick r:id="rId1" action="ppaction://hlinksldjump"/>
          </p:cNvPr>
          <p:cNvSpPr/>
          <p:nvPr/>
        </p:nvSpPr>
        <p:spPr>
          <a:xfrm>
            <a:off x="5486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3 products of Glycoly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ction Button: Information 3">
            <a:hlinkClick r:id="rId1" action="ppaction://hlinksldjump"/>
          </p:cNvPr>
          <p:cNvSpPr/>
          <p:nvPr/>
        </p:nvSpPr>
        <p:spPr>
          <a:xfrm>
            <a:off x="5486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hase of Cellular Respiration consumes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ction Button: Information 3">
            <a:hlinkClick r:id="rId1" action="ppaction://hlinksldjump"/>
          </p:cNvPr>
          <p:cNvSpPr/>
          <p:nvPr/>
        </p:nvSpPr>
        <p:spPr>
          <a:xfrm>
            <a:off x="5486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2 reactions of cellular respiration produce carbon diox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ction Button: Information 3">
            <a:hlinkClick r:id="rId1" action="ppaction://hlinksldjump"/>
          </p:cNvPr>
          <p:cNvSpPr/>
          <p:nvPr/>
        </p:nvSpPr>
        <p:spPr>
          <a:xfrm>
            <a:off x="5486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pecific location would you find ATP Synth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ction Button: Information 3">
            <a:hlinkClick r:id="rId1" action="ppaction://hlinksldjump"/>
          </p:cNvPr>
          <p:cNvSpPr/>
          <p:nvPr/>
        </p:nvSpPr>
        <p:spPr>
          <a:xfrm>
            <a:off x="5486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y released from the electron transport chain is used for what specific purpo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ction Button: Information 3">
            <a:hlinkClick r:id="rId1" action="ppaction://hlinksldjump"/>
          </p:cNvPr>
          <p:cNvSpPr/>
          <p:nvPr/>
        </p:nvSpPr>
        <p:spPr>
          <a:xfrm>
            <a:off x="5486400" y="52052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79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7">
                <a:moveTo>
                  <a:pt x="10800" y="417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7">
                <a:moveTo>
                  <a:pt x="8224" y="8227"/>
                </a:moveTo>
                <a:lnTo>
                  <a:pt x="12088" y="8227"/>
                </a:lnTo>
                <a:lnTo>
                  <a:pt x="12088" y="15225"/>
                </a:lnTo>
                <a:lnTo>
                  <a:pt x="13376" y="15225"/>
                </a:lnTo>
                <a:lnTo>
                  <a:pt x="13376" y="16148"/>
                </a:lnTo>
                <a:lnTo>
                  <a:pt x="8224" y="16148"/>
                </a:lnTo>
                <a:lnTo>
                  <a:pt x="8224" y="15225"/>
                </a:lnTo>
                <a:lnTo>
                  <a:pt x="9512" y="15225"/>
                </a:lnTo>
                <a:lnTo>
                  <a:pt x="9512" y="9133"/>
                </a:lnTo>
                <a:lnTo>
                  <a:pt x="8224" y="91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oxygen is not present, this process will proceed after glyco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ction Button: Information 3">
            <a:hlinkClick r:id="rId1" action="ppaction://hlinksldjump"/>
          </p:cNvPr>
          <p:cNvSpPr/>
          <p:nvPr/>
        </p:nvSpPr>
        <p:spPr>
          <a:xfrm>
            <a:off x="5486400" y="52052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79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7">
                <a:moveTo>
                  <a:pt x="10800" y="417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7">
                <a:moveTo>
                  <a:pt x="8224" y="8227"/>
                </a:moveTo>
                <a:lnTo>
                  <a:pt x="12088" y="8227"/>
                </a:lnTo>
                <a:lnTo>
                  <a:pt x="12088" y="15225"/>
                </a:lnTo>
                <a:lnTo>
                  <a:pt x="13376" y="15225"/>
                </a:lnTo>
                <a:lnTo>
                  <a:pt x="13376" y="16148"/>
                </a:lnTo>
                <a:lnTo>
                  <a:pt x="8224" y="16148"/>
                </a:lnTo>
                <a:lnTo>
                  <a:pt x="8224" y="15225"/>
                </a:lnTo>
                <a:lnTo>
                  <a:pt x="9512" y="15225"/>
                </a:lnTo>
                <a:lnTo>
                  <a:pt x="9512" y="9133"/>
                </a:lnTo>
                <a:lnTo>
                  <a:pt x="8224" y="91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location where Acetyl Co-A would accumu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ction Button: Information 3"/>
          <p:cNvSpPr/>
          <p:nvPr/>
        </p:nvSpPr>
        <p:spPr>
          <a:xfrm>
            <a:off x="5486400" y="52052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79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7">
                <a:moveTo>
                  <a:pt x="10800" y="417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7">
                <a:moveTo>
                  <a:pt x="8224" y="8227"/>
                </a:moveTo>
                <a:lnTo>
                  <a:pt x="12088" y="8227"/>
                </a:lnTo>
                <a:lnTo>
                  <a:pt x="12088" y="15225"/>
                </a:lnTo>
                <a:lnTo>
                  <a:pt x="13376" y="15225"/>
                </a:lnTo>
                <a:lnTo>
                  <a:pt x="13376" y="16148"/>
                </a:lnTo>
                <a:lnTo>
                  <a:pt x="8224" y="16148"/>
                </a:lnTo>
                <a:lnTo>
                  <a:pt x="8224" y="15225"/>
                </a:lnTo>
                <a:lnTo>
                  <a:pt x="9512" y="15225"/>
                </a:lnTo>
                <a:lnTo>
                  <a:pt x="9512" y="9133"/>
                </a:lnTo>
                <a:lnTo>
                  <a:pt x="8224" y="91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1:11:31Z</dcterms:created>
  <dc:creator>NASD</dc:creator>
  <dc:description/>
  <dc:language>en-US</dc:language>
  <cp:lastModifiedBy>Petrov, Leanna</cp:lastModifiedBy>
  <dcterms:modified xsi:type="dcterms:W3CDTF">2013-10-15T13:07:27Z</dcterms:modified>
  <cp:revision>16</cp:revision>
  <dc:subject/>
  <dc:title>Slide 1</dc:title>
</cp:coreProperties>
</file>